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785F-4839-4E69-B9B8-3AAC284FD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E34F-8DE1-4419-80F9-1A64398643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Designing an Effective PowerPoint: Quick Guide.”   This presentation is designed to quickly introduce you into the world of PowerPoint creation. The information presented here are a much shorter version of the three Designing an Effective PowerPoint guides found also on the OWL. This presentation has chiseled the information in the other presentations down into the most useful and effective information. This presentation is ideal for beginning a PowerPoint very near its due date or as an enticement to check out the other three gu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Lars Erik Söderl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Thanks to Robin Williams, whose Non-Designer’s Design Book and Design Workshop were helpful aids in the development of the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5229-C43E-4C44-A7C4-54F962608E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For a presentation to be effective, it must include content that outside of PowerPoi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FE4B-71B6-4401-8373-619362BDD9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hen planning the delivery of your presentation, keep in mind </a:t>
            </a:r>
            <a:r>
              <a:rPr b="0" lang="en-US" sz="1200" spc="-1" strike="noStrike">
                <a:solidFill>
                  <a:srgbClr val="000000"/>
                </a:solidFill>
                <a:latin typeface="Arial"/>
              </a:rPr>
              <a:t>what will be best expressed by you in your own voice; remember, rarely can even the best PowerPoint take the place of a real, human voice. Similarly, try not to rely too much on a laser pointer; instead use the design of your slides to direct your audience</a:t>
            </a:r>
            <a:r>
              <a:rPr b="0" lang="en-US" sz="1200" spc="-1" strike="noStrike">
                <a:solidFill>
                  <a:srgbClr val="000000"/>
                </a:solidFill>
                <a:latin typeface="Arial"/>
              </a:rPr>
              <a:t>’</a:t>
            </a:r>
            <a:r>
              <a:rPr b="0" lang="en-US" sz="1200" spc="-1" strike="noStrike">
                <a:solidFill>
                  <a:srgbClr val="000000"/>
                </a:solidFill>
                <a:latin typeface="Arial"/>
              </a:rPr>
              <a:t>s atten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hat Powerpoint can do and what it can't (and keep in mind what you're comfortable doing in PowerPoint and not). If you want to have an audience</a:t>
            </a:r>
            <a:r>
              <a:rPr b="0" lang="en-US" sz="1200" spc="-1" strike="noStrike">
                <a:solidFill>
                  <a:srgbClr val="000000"/>
                </a:solidFill>
                <a:latin typeface="Arial"/>
              </a:rPr>
              <a:t>’</a:t>
            </a:r>
            <a:r>
              <a:rPr b="0" lang="en-US" sz="1200" spc="-1" strike="noStrike">
                <a:solidFill>
                  <a:srgbClr val="000000"/>
                </a:solidFill>
                <a:latin typeface="Arial"/>
              </a:rPr>
              <a:t>s complete, undivided attention, leave time between slides to talk uninterrupted, or even insert a white, blank slide and look your audience in the eye as you speak to them. Further, you can use </a:t>
            </a:r>
            <a:r>
              <a:rPr b="0" lang="en-US" sz="1200" spc="-1" strike="noStrike">
                <a:solidFill>
                  <a:srgbClr val="000000"/>
                </a:solidFill>
                <a:latin typeface="Arial"/>
              </a:rPr>
              <a:t>”</a:t>
            </a:r>
            <a:r>
              <a:rPr b="0" lang="en-US" sz="1200" spc="-1" strike="noStrike">
                <a:solidFill>
                  <a:srgbClr val="000000"/>
                </a:solidFill>
                <a:latin typeface="Arial"/>
              </a:rPr>
              <a:t>Presenter Tools" and other facilities in the newer versions of PowerPoint to enhance your presentation. Search your Office software</a:t>
            </a:r>
            <a:r>
              <a:rPr b="0" lang="en-US" sz="1200" spc="-1" strike="noStrike">
                <a:solidFill>
                  <a:srgbClr val="000000"/>
                </a:solidFill>
                <a:latin typeface="Arial"/>
              </a:rPr>
              <a:t>’</a:t>
            </a:r>
            <a:r>
              <a:rPr b="0" lang="en-US" sz="1200" spc="-1" strike="noStrike">
                <a:solidFill>
                  <a:srgbClr val="000000"/>
                </a:solidFill>
                <a:latin typeface="Arial"/>
              </a:rPr>
              <a:t>s Help for assistance on presenter tools, and consult rhetoric and elocution manuals for help in public speak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DAD8-F2CE-40A9-A877-451C9CF345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hile making your presentation, be sure to relax. Work hard, but know that your best is all that you can give. Also, a relaxed, confident PowerPoint presenter is persuasive and fun to 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for each paragrap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ADE3-95C3-4842-9A5F-36D057960D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CA8A-11F0-4FFF-ABF4-490386FAD9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e first step in making any PowerPoint is to create a slide (that is, to insert the slide into your presentation). </a:t>
            </a:r>
            <a:r>
              <a:rPr b="0" lang="en-US" sz="1200" spc="-1" strike="noStrike">
                <a:solidFill>
                  <a:srgbClr val="000000"/>
                </a:solidFill>
                <a:latin typeface="Arial"/>
              </a:rPr>
              <a:t>In most versions of PowerPoint,  click on “Insert” from the File Menu and then click New Slide. After your new slide appears, you add content by clicking Insert and then some type of content (a picture or a text box,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made the instructions on this slide and others purposefully simple as a reminder that the process is essentially a simple one. Even the best presentations are still just slides with content on top of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DC9D-67C8-40D9-A6DF-95D0B9A31DD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xplains transitions. This next slide will appear with a Transition called “Wipe Righ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8427-5075-4162-93A8-695B67BB7E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xplains how to create transitions from the Normal View within PowerPoint. Normal View is the default view of PowerPoint, and likely the view you currently have in order to view these Speaker Notes. To create a transition between PowerPoint slides, view the slide you wish to edit (the slide you wish to be introduced with a selected transition) and follow the directions abo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0336-4C1B-4B95-A9DA-71C2C7F063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Animations are what people often picture in their minds when they think of PowerPoint. Have you ever seen the items of a bulleted list PowerPoint fly across the screen into place, one by one? That is an animation. Text on this page has appeared with an animation called “Fade 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31F6-924C-462E-A6E3-3D8C1485FB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4"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slide shows you how to create animations. First, click on the slide element (picture, text, graphic) you wish to animate. Then, under the Slide Show Menu, click Pre-Set Animations and select an animation. Or you can have your element(s) appear in a customized way by selecting Custom Animations under the Slide Show Menu.This is the last slide of purely technical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5C98-3DED-4E6F-B8A6-D0DF72E7AE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Your PowerPoint will require some planning to be effective. The study of rhetoric can help. Sometimes in today’s culture we use “rhetoric” to mean empty politics or crafty political maneuvering, but that’s not the word’s original definition. Rhetoric is a study of communication originated in ancient times that can be helpful in making your communication better. One example is the concept of the rhetorical situation, which is all the conditions under which a communication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be effective in your presentation, you must think about three key parts of your project: your presentation, your audience, and your subject matter. Your audience will be all the people whom your presentation will reach. Your subject matter will be the message your PowerPoint is trying to get across. Your presentation will be all that you do to communicate your subject matter to your audience. Good PowerPoint projects come from making design decisions that fit the presentation’s need, so you should base every design decision in your presentation on what would be suitable for your audience relative to what works the best with your subject matter. For example, if you are presenting your lab findings to a group of Physics colleagues who have no patience for time wasted, you will want to make your PowerPoint quick and to the point, without lengthy animations or transitions. Also, you will want the information you present to be clear immediately. If, on the other hand, you are trying to impress a group of High School students with your presentation about quadratic equations, you might use a fun template for your presentation or use a few carefully placed transitions to grab thei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best results, view the rest of this PowerPoint and its notes with a blank sheet of paper or a pen with which to write out your thoughts about the suggetions this PowerPoint will make. Or you can make a Word document on which you can answer th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for each paragrap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583A-A05E-4ECC-956C-AF32C1AC10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A rhetorical concept very important in creating a PowerPoint is “Arrangement.” Just as an essay or speech has to be carefully ordered to enthrall and educate its audience, so too must your PowerPoint presentation be ordered carefully so that your audience buys into your argument (argument here means whatever you are trying to convince your audience of, whether it’s that your company is a success, or that your school needs new chairs, or that the audience should give more attention to recycling; it’s whatever point you’re trying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your PowerPoint will depend on what you think your audience needs. If they need clarity in your presentation because you think there is a risk of them getting lost in your complicated points, you might start by giving them an overview of the order and goals of your presentation, then proceed into the “Body” of your presentation, making your points and providing your evidence, and finally wrap everything up with a conclusion of what you went over (it’s important if you choose this ordering scheme to not be repetitive in your vocabulary). If, on the other hand, your audience might be bored even before you start, you might start with an anecdote. Using an amusing or emotionally compelling story can get your audience invested in your presentation right away. Similarly, if you are attempting to convince an audience to establish something new (like buying new chairs or starting a recycling program, two examples I mentioned above) and are facing an audience that demands your presentation be short and to the point, you can start with the plan of action you suggest, then discuss the benefits of that plan, and once your audience is hooked perhaps throw in an anecdote at the en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plan’s benefits real in your audience’s mind. Whatever you do, organize your PowerPoint conscientiously and create it squarely for the benefit of your audien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6A38-1FEF-4286-971E-605A097EB31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2"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slide focuses on contrast. The purpose of contrast in a PowerPoint is to focus your audience’s attention on one particular element within your PowerPoint. To adequately create focus you must make the object of attention very different from the other elements that surround it. If you do not, it will simply blend in with the other aspects of th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size contrast, simply make larger or smaller the element you wish to draw focus. Remember to be bold- the type size difference should be at least twenty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color contrast, make the color of the focus object dramatically different from the rest of the composition. Color theory (the study of how colors affect the human brain) is complicated, but it helps to remember that cool colors (e.g. blue, purple) appear to recede from your eye (for this reason the OWL has made the background of our template a cool blue) while warmer colors (red, orange) appear to pop out from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contrast can be even more complex, but is summarized neatly by saying that it is contrast created by differences in font. I will address type contrast later in this PowerPoint, but if you are especially interested in knowing about type contrast you should at least briefly research the art of typesetting (Robin Williams, the graphic designer, has a great book on this called The Non-Designer’s Typ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guidance regarding contrast is to be strategic. It is impossible to make your audience focus on everything- trying to do so will just scatter the audience. Thus, control your con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being 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page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gning an Effective Powerpoint</a:t>
            </a:r>
            <a:endParaRPr b="0" lang="en-US" sz="4000" spc="-1" strike="noStrike">
              <a:solidFill>
                <a:srgbClr val="000000"/>
              </a:solidFill>
              <a:latin typeface="Arial Black"/>
            </a:endParaRPr>
          </a:p>
        </p:txBody>
      </p:sp>
      <p:sp>
        <p:nvSpPr>
          <p:cNvPr id="84" name="PlaceHolder 2"/>
          <p:cNvSpPr>
            <a:spLocks noGrp="1"/>
          </p:cNvSpPr>
          <p:nvPr>
            <p:ph type="subTitle"/>
          </p:nvPr>
        </p:nvSpPr>
        <p:spPr>
          <a:xfrm>
            <a:off x="1295280" y="2819520"/>
            <a:ext cx="640080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Quick Gu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Exterior Content</a:t>
            </a:r>
            <a:endParaRPr b="0" lang="en-US" sz="3600" spc="-1" strike="noStrike">
              <a:solidFill>
                <a:srgbClr val="000000"/>
              </a:solidFill>
              <a:latin typeface="Arial Black"/>
            </a:endParaRPr>
          </a:p>
        </p:txBody>
      </p:sp>
      <p:sp>
        <p:nvSpPr>
          <p:cNvPr id="102" name="PlaceHolder 2"/>
          <p:cNvSpPr>
            <a:spLocks noGrp="1"/>
          </p:cNvSpPr>
          <p:nvPr>
            <p:ph/>
          </p:nvPr>
        </p:nvSpPr>
        <p:spPr>
          <a:xfrm>
            <a:off x="533520" y="1218960"/>
            <a:ext cx="8076960" cy="5105160"/>
          </a:xfrm>
          <a:prstGeom prst="rect">
            <a:avLst/>
          </a:prstGeom>
          <a:noFill/>
          <a:ln w="0">
            <a:noFill/>
          </a:ln>
        </p:spPr>
        <p:txBody>
          <a:bodyPr anchor="t">
            <a:normAutofit/>
          </a:bodyPr>
          <a:p>
            <a:pPr marL="507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rior Content - </a:t>
            </a:r>
            <a:r>
              <a:rPr b="0" lang="en-US" sz="2800" spc="-1" strike="noStrike">
                <a:solidFill>
                  <a:srgbClr val="000000"/>
                </a:solidFill>
                <a:latin typeface="Arial"/>
              </a:rPr>
              <a:t>Everything in your presentation other than your PowerPoint. </a:t>
            </a:r>
            <a:endParaRPr b="0" lang="en-US" sz="2800" spc="-1" strike="noStrike">
              <a:solidFill>
                <a:srgbClr val="000000"/>
              </a:solidFill>
              <a:latin typeface="Arial"/>
            </a:endParaRPr>
          </a:p>
          <a:p>
            <a:pPr marL="507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presentations include practiced hand gestures, polished verbal delivery, and some form of crowd inter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terior Content Help</a:t>
            </a:r>
            <a:endParaRPr b="0" lang="en-US" sz="3600" spc="-1" strike="noStrike">
              <a:solidFill>
                <a:srgbClr val="000000"/>
              </a:solidFill>
              <a:latin typeface="Arial Black"/>
            </a:endParaRPr>
          </a:p>
        </p:txBody>
      </p:sp>
      <p:sp>
        <p:nvSpPr>
          <p:cNvPr id="104"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1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PowerPoint as an aid to your presentation, not </a:t>
            </a:r>
            <a:r>
              <a:rPr b="0" i="1" lang="en-US" sz="3200" spc="-1" strike="noStrike">
                <a:solidFill>
                  <a:srgbClr val="000000"/>
                </a:solidFill>
                <a:latin typeface="Arial"/>
              </a:rPr>
              <a:t>as</a:t>
            </a:r>
            <a:r>
              <a:rPr b="0" lang="en-US" sz="3200" spc="-1" strike="noStrike">
                <a:solidFill>
                  <a:srgbClr val="000000"/>
                </a:solidFill>
                <a:latin typeface="Arial"/>
              </a:rPr>
              <a:t> your presentation</a:t>
            </a:r>
            <a:endParaRPr b="0" lang="en-US" sz="3200" spc="-1" strike="noStrike">
              <a:solidFill>
                <a:srgbClr val="000000"/>
              </a:solidFill>
              <a:latin typeface="Arial"/>
            </a:endParaRPr>
          </a:p>
          <a:p>
            <a:pPr marL="343080" indent="-343080">
              <a:lnSpc>
                <a:spcPct val="12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that your Exterior Content and your Interior Content are different</a:t>
            </a:r>
            <a:endParaRPr b="0" lang="en-US" sz="3200" spc="-1" strike="noStrike">
              <a:solidFill>
                <a:srgbClr val="000000"/>
              </a:solidFill>
              <a:latin typeface="Arial"/>
            </a:endParaRPr>
          </a:p>
          <a:p>
            <a:pPr marL="343080" indent="-343080">
              <a:lnSpc>
                <a:spcPct val="12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your presentation space and execute your gestures and volume accordingly</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lax</a:t>
            </a:r>
            <a:endParaRPr b="0" lang="en-US" sz="3600" spc="-1" strike="noStrike">
              <a:solidFill>
                <a:srgbClr val="000000"/>
              </a:solidFill>
              <a:latin typeface="Arial Black"/>
            </a:endParaRPr>
          </a:p>
        </p:txBody>
      </p:sp>
      <p:sp>
        <p:nvSpPr>
          <p:cNvPr id="10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4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 calm</a:t>
            </a:r>
            <a:endParaRPr b="0" lang="en-US" sz="3200" spc="-1" strike="noStrike">
              <a:solidFill>
                <a:srgbClr val="000000"/>
              </a:solidFill>
              <a:latin typeface="Arial"/>
            </a:endParaRPr>
          </a:p>
          <a:p>
            <a:pPr marL="343080" indent="-343080">
              <a:lnSpc>
                <a:spcPct val="14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PowerPoint is still just slides strung together with trans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eating Slides</a:t>
            </a:r>
            <a:endParaRPr b="0" lang="en-US" sz="3600" spc="-1" strike="noStrike">
              <a:solidFill>
                <a:srgbClr val="000000"/>
              </a:solidFill>
              <a:latin typeface="Arial Black"/>
            </a:endParaRPr>
          </a:p>
        </p:txBody>
      </p:sp>
      <p:sp>
        <p:nvSpPr>
          <p:cNvPr id="86"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lnSpc>
                <a:spcPct val="11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ert &gt; New Slide</a:t>
            </a:r>
            <a:endParaRPr b="0" lang="en-US" sz="3600" spc="-1" strike="noStrike">
              <a:solidFill>
                <a:srgbClr val="000000"/>
              </a:solidFill>
              <a:latin typeface="Arial"/>
            </a:endParaRPr>
          </a:p>
          <a:p>
            <a:pPr marL="609480" indent="-609480">
              <a:lnSpc>
                <a:spcPct val="11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ert &gt; (Choose content, e.g. Picture, Text Box…)</a:t>
            </a:r>
            <a:endParaRPr b="0" lang="en-US" sz="3600" spc="-1" strike="noStrike">
              <a:solidFill>
                <a:srgbClr val="000000"/>
              </a:solidFill>
              <a:latin typeface="Arial"/>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Manipulate Size and Position of Content</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ansitions</a:t>
            </a:r>
            <a:endParaRPr b="0" lang="en-US" sz="3600" spc="-1" strike="noStrike">
              <a:solidFill>
                <a:srgbClr val="000000"/>
              </a:solidFill>
              <a:latin typeface="Arial Black"/>
            </a:endParaRPr>
          </a:p>
        </p:txBody>
      </p:sp>
      <p:sp>
        <p:nvSpPr>
          <p:cNvPr id="88"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tion</a:t>
            </a:r>
            <a:r>
              <a:rPr b="0" lang="en-US" sz="3200" spc="-1" strike="noStrike">
                <a:solidFill>
                  <a:srgbClr val="000000"/>
                </a:solidFill>
                <a:latin typeface="Arial"/>
              </a:rPr>
              <a:t> - </a:t>
            </a:r>
            <a:r>
              <a:rPr b="0" lang="en-US" sz="2800" spc="-1" strike="noStrike">
                <a:solidFill>
                  <a:srgbClr val="000000"/>
                </a:solidFill>
                <a:latin typeface="Arial"/>
              </a:rPr>
              <a:t>An effect that determines how slides progressively show up on-screen, e.g. Blinds, Cut, Wipe.</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Black"/>
              </a:rPr>
              <a:t>Creating Transitions (Normal View)</a:t>
            </a:r>
            <a:endParaRPr b="0" lang="en-US" sz="3300" spc="-1" strike="noStrike">
              <a:solidFill>
                <a:srgbClr val="000000"/>
              </a:solidFill>
              <a:latin typeface="Arial Black"/>
            </a:endParaRPr>
          </a:p>
        </p:txBody>
      </p:sp>
      <p:sp>
        <p:nvSpPr>
          <p:cNvPr id="90"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w slide you wish to edit</a:t>
            </a:r>
            <a:endParaRPr b="0" lang="en-US" sz="3600" spc="-1" strike="noStrike">
              <a:solidFill>
                <a:srgbClr val="000000"/>
              </a:solidFill>
              <a:latin typeface="Arial"/>
            </a:endParaRPr>
          </a:p>
          <a:p>
            <a:pPr marL="609480" indent="-60948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lide Show &gt; Slide Transition…</a:t>
            </a:r>
            <a:endParaRPr b="0" lang="en-US" sz="3600" spc="-1" strike="noStrike">
              <a:solidFill>
                <a:srgbClr val="000000"/>
              </a:solidFill>
              <a:latin typeface="Arial"/>
            </a:endParaRPr>
          </a:p>
          <a:p>
            <a:pPr marL="609480" indent="-60948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ge slideshow transition</a:t>
            </a:r>
            <a:endParaRPr b="0" lang="en-US" sz="3600" spc="-1" strike="noStrike">
              <a:solidFill>
                <a:srgbClr val="000000"/>
              </a:solidFill>
              <a:latin typeface="Arial"/>
            </a:endParaRPr>
          </a:p>
          <a:p>
            <a:pPr marL="609480" indent="-60948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Apply</a:t>
            </a:r>
            <a:endParaRPr b="0" lang="en-US" sz="3600" spc="-1" strike="noStrike">
              <a:solidFill>
                <a:srgbClr val="000000"/>
              </a:solidFill>
              <a:latin typeface="Arial"/>
            </a:endParaRPr>
          </a:p>
        </p:txBody>
      </p:sp>
    </p:spTree>
  </p:cSld>
  <p:transition spd="slow">
    <p:wipe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nimation</a:t>
            </a:r>
            <a:endParaRPr b="0" lang="en-US" sz="3600" spc="-1" strike="noStrike">
              <a:solidFill>
                <a:srgbClr val="000000"/>
              </a:solidFill>
              <a:latin typeface="Arial Black"/>
            </a:endParaRPr>
          </a:p>
        </p:txBody>
      </p:sp>
      <p:sp>
        <p:nvSpPr>
          <p:cNvPr id="9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imation</a:t>
            </a:r>
            <a:r>
              <a:rPr b="0" lang="en-US" sz="3200" spc="-1" strike="noStrike">
                <a:solidFill>
                  <a:srgbClr val="000000"/>
                </a:solidFill>
                <a:latin typeface="Arial"/>
              </a:rPr>
              <a:t> - </a:t>
            </a:r>
            <a:r>
              <a:rPr b="0" lang="en-US" sz="2800" spc="-1" strike="noStrike">
                <a:solidFill>
                  <a:srgbClr val="000000"/>
                </a:solidFill>
                <a:latin typeface="Arial"/>
              </a:rPr>
              <a:t>An effect that determines how elements of a slide appear on screen, e.g. Dissolve, Fly In, Flash Once.</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92">
                                            <p:txEl>
                                              <p:pRg st="0" end="0"/>
                                            </p:txEl>
                                          </p:spTgt>
                                        </p:tgtEl>
                                        <p:attrNameLst>
                                          <p:attrName>style.visibility</p:attrName>
                                        </p:attrNameLst>
                                      </p:cBhvr>
                                      <p:to>
                                        <p:strVal val="visible"/>
                                      </p:to>
                                    </p:set>
                                    <p:animEffect filter="fade" transition="in">
                                      <p:cBhvr additive="repl">
                                        <p:cTn id="45"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eating Animation</a:t>
            </a:r>
            <a:endParaRPr b="0" lang="en-US" sz="3600" spc="-1" strike="noStrike">
              <a:solidFill>
                <a:srgbClr val="000000"/>
              </a:solidFill>
              <a:latin typeface="Arial Black"/>
            </a:endParaRPr>
          </a:p>
        </p:txBody>
      </p:sp>
      <p:sp>
        <p:nvSpPr>
          <p:cNvPr id="94"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lnSpc>
                <a:spcPct val="12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 slide element</a:t>
            </a:r>
            <a:endParaRPr b="0" lang="en-US" sz="3600" spc="-1" strike="noStrike">
              <a:solidFill>
                <a:srgbClr val="000000"/>
              </a:solidFill>
              <a:latin typeface="Arial"/>
            </a:endParaRPr>
          </a:p>
          <a:p>
            <a:pPr marL="609480" indent="-609480">
              <a:lnSpc>
                <a:spcPct val="12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lide Show &gt; Pre-Set Animations &gt;</a:t>
            </a:r>
            <a:endParaRPr b="0" lang="en-US" sz="3600" spc="-1" strike="noStrike">
              <a:solidFill>
                <a:srgbClr val="000000"/>
              </a:solidFill>
              <a:latin typeface="Arial"/>
            </a:endParaRPr>
          </a:p>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 an animation) </a:t>
            </a:r>
            <a:r>
              <a:rPr b="0" i="1" lang="en-US" sz="3600" spc="-1" strike="noStrike">
                <a:solidFill>
                  <a:srgbClr val="000000"/>
                </a:solidFill>
                <a:latin typeface="Arial"/>
              </a:rPr>
              <a:t>OR</a:t>
            </a:r>
            <a:endParaRPr b="0" lang="en-US" sz="3600" spc="-1" strike="noStrike">
              <a:solidFill>
                <a:srgbClr val="000000"/>
              </a:solidFill>
              <a:latin typeface="Arial"/>
            </a:endParaRPr>
          </a:p>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Slide Show &gt; Custom Animations &gt;</a:t>
            </a:r>
            <a:endParaRPr b="0" lang="en-US" sz="3600" spc="-1" strike="noStrike">
              <a:solidFill>
                <a:srgbClr val="000000"/>
              </a:solidFill>
              <a:latin typeface="Arial"/>
            </a:endParaRPr>
          </a:p>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 order and animation for each slide el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Rhetorical Situation</a:t>
            </a:r>
            <a:endParaRPr b="0" lang="en-US" sz="3600" spc="-1" strike="noStrike">
              <a:solidFill>
                <a:srgbClr val="000000"/>
              </a:solidFill>
              <a:latin typeface="Arial Black"/>
            </a:endParaRPr>
          </a:p>
        </p:txBody>
      </p:sp>
      <p:sp>
        <p:nvSpPr>
          <p:cNvPr id="9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k about your project</a:t>
            </a:r>
            <a:endParaRPr b="0" lang="en-US" sz="3600" spc="-1" strike="noStrike">
              <a:solidFill>
                <a:srgbClr val="000000"/>
              </a:solidFill>
              <a:latin typeface="Arial"/>
            </a:endParaRPr>
          </a:p>
          <a:p>
            <a:pPr lvl="1" marL="743040" indent="-28584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ence</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matter</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96">
                                            <p:txEl>
                                              <p:pRg st="0" end="0"/>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6">
                                            <p:txEl>
                                              <p:pRg st="1" end="1"/>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6">
                                            <p:txEl>
                                              <p:pRg st="2" end="2"/>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rrangement</a:t>
            </a:r>
            <a:endParaRPr b="0" lang="en-US" sz="3600" spc="-1" strike="noStrike">
              <a:solidFill>
                <a:srgbClr val="000000"/>
              </a:solidFill>
              <a:latin typeface="Arial Black"/>
            </a:endParaRPr>
          </a:p>
        </p:txBody>
      </p:sp>
      <p:sp>
        <p:nvSpPr>
          <p:cNvPr id="98"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 your points</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your argument methodically</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w options:</a:t>
            </a:r>
            <a:endParaRPr b="0" lang="en-US" sz="28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Body, Conclusion</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ecdote, Content, Conclusion</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Benefits, Anecdote</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98">
                                            <p:txEl>
                                              <p:pRg st="0" end="0"/>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98">
                                            <p:txEl>
                                              <p:pRg st="1" end="1"/>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98">
                                            <p:txEl>
                                              <p:pRg st="2" end="2"/>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98">
                                            <p:txEl>
                                              <p:pRg st="3" end="3"/>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98">
                                            <p:txEl>
                                              <p:pRg st="4" end="4"/>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98">
                                            <p:txEl>
                                              <p:pRg st="5" end="5"/>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trast</a:t>
            </a:r>
            <a:endParaRPr b="0" lang="en-US" sz="3600" spc="-1" strike="noStrike">
              <a:solidFill>
                <a:srgbClr val="000000"/>
              </a:solidFill>
              <a:latin typeface="Arial Black"/>
            </a:endParaRPr>
          </a:p>
        </p:txBody>
      </p:sp>
      <p:sp>
        <p:nvSpPr>
          <p:cNvPr id="10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reate Focus</a:t>
            </a:r>
            <a:endParaRPr b="0" lang="en-US" sz="40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Contra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Contra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Contrast (more on this l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5:45:40Z</dcterms:created>
  <dc:creator>College of Liberal Arts</dc:creator>
  <dc:description/>
  <dc:language>en-US</dc:language>
  <cp:lastModifiedBy>Bob</cp:lastModifiedBy>
  <dcterms:modified xsi:type="dcterms:W3CDTF">2010-04-13T01:10:47Z</dcterms:modified>
  <cp:revision>16</cp:revision>
  <dc:subject/>
  <dc:title>Title</dc:title>
</cp:coreProperties>
</file>